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D533B-9D2D-4DC1-BF7A-44F43A797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B80EB-0C8D-4DB4-93B0-15A575E626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127-02C5-49F6-8E90-6EF32BD1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63A-48EC-40B7-9DE0-D0F7305E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3DD8-5DD1-4332-A8E5-4DF00747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A83-7FDE-4BF8-8291-C243F021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C16-C9E8-46DF-AA3D-35669826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C7F-9DB1-4091-AE8E-1390014C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84D-4D66-43BC-9BFB-B55F7D3B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A59-1CA8-4D82-AC50-3091B93B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1EA2-1C36-4D0C-8227-40B65241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5D18-156A-460A-9883-A3411AEC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25C-5212-4276-AF90-919D8402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BEBC-1D59-4268-8683-E76FC7D5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64C73-1898-4578-A960-C1259B405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kimler ve Savcılar İçin İleri Düzey Bilişim Suçları Eğiti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a6a6a6"/>
                </a:solidFill>
                <a:latin typeface="Calibri"/>
              </a:rPr>
              <a:t>Oturum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 1.1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(</a:t>
            </a:r>
            <a:r>
              <a:rPr b="0" lang="tr-TR" sz="3200" spc="-1" strike="noStrike">
                <a:solidFill>
                  <a:srgbClr val="a6a6a6"/>
                </a:solidFill>
                <a:latin typeface="Calibri"/>
              </a:rPr>
              <a:t>Kursun Kapanışı ve Geri Bildirim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Oturumun Amac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0464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Bu oturum, katılımcıların kurs hakkında geri bildirimde bulunmalarına imkan vermeyi ve yapılabilecek her türlü iyileştirmeyi belirlemesi için eğitmene yardımcı olmayı amaçlamaktadır. Eğitmen, ayrıca hedef ve amaçlara göre kursun içeriğini yeniden özetleyecektir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Oturumun Amaç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u oturumun sonunda katılımcıla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Kurs ve etkinliği hakkında uygun geri bildirimde bulunabilecek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AK (Avrupa Konseyi) kurs değerlendirme formlarını doldurabilecek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Konuya ilişkin bilgi ve becerilerini artırmak için gerek duydukları bundan sonraki öğrenme seviyesini belirleyebileceklerdi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Kursun Amaç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03200" y="1189080"/>
            <a:ext cx="8686800" cy="56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Bu kursun sonunda katılımcılar, aşağıdakiler dahil olmak üzere bilişim suçları soruşturmaları ile ilgili konuları değerlendirebileceklerdir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Bir soruşturmanın yürütülmesi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İşlenen suçların türlerinin belirlenmesi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Kanıtların, tanıkların ve zanlıların bulunduğu yerlerin belirlenmesi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Nerede bulunduklarına bakılmaksızın kanıtların kabul edilebilir bir şeklide muhafaza altına alınmas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Elektronik kanıtlarla ilgili arama ve el koyma çalışmaları için hazırlık yapılmas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Soruşturmanın bir parçası olan dijital cihazlarla ilgili çalışmalar yapılmas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Soruşturma aşamasının desteklenmesi için gerekli olan adli bilim uzmanları ve diğer kişilere yönelik talimatlar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Zanlıların sorgulanması için hazırlık yapılmas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Bilişim suçları kanıtlarının sunulmas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Adli süreç sırasında ilgili hususların değerlendirilmesi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Program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1. Gü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8080" y="1417320"/>
            <a:ext cx="8820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urs, Eğitmen ve Senaryo Hakkında Bilgi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ir soruşturmanın geliştirilme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uçların belirlenmesi, bir soruşturma planı ve senaryonun hazırlanması konusunda grup çalışmas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Öğle yemeğ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unum – Uluslararası İşbirliğ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5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Uluslararası işbirliği hakkında grup çalışmas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6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uçlunun belirlenmesi ve bir tutuklama stratejisinin oluşturulması hakkında grup çalışmas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Program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2. Gü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0840" y="1417680"/>
            <a:ext cx="88664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1. günün değerlendirilmesi – Tutuklama(lar) hakkında bilgi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5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Di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jital Adli Bili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5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1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3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 -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ijital kanıtlar, kanıt gereksinimleri, zanlılar, yargı yetkisi ve uluslararası konular hakkında grup çalışmas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Öğle yemeğ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mahkeme için dosyanın hazırlanmas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5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osyaya son şeklinin verilmesi hakkında grup çalışmas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6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7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osyanın gözden geçirilmesi, eğitim ekibi ve katılımcıların açıklamaları, değerlendirme, geri bildirim ve kursun kapanmas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Bu oturumun sonunda katılımcıla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Kurs ve etkinliği hakkında uygun geri bildirimde bulunabilecek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AK (Avrupa Konseyi) kurs değerlendirme formlarını doldurabilecek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Konuya ilişkin bilgi ve becerilerini artırmak için gerek duydukları bundan sonraki öğrenme seviyesini belirleyebileceklerd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Oturum Amaçlarının Öze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3083760" y="450072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20:24Z</dcterms:created>
  <dc:creator>OPERATOR</dc:creator>
  <dc:description>Uğur Mumucu Caddesi Kırçiçeği Sokağı No: 8/2
TR-06700 G.O.P Çankaya/ANKARA
Fax: +90-312- 441 91 0</dc:description>
  <cp:keywords>www.erenoglu.com.tr</cp:keywords>
  <dc:language>en-US</dc:language>
  <cp:lastModifiedBy>OPERATOR</cp:lastModifiedBy>
  <dcterms:modified xsi:type="dcterms:W3CDTF">2013-08-05T08:39:23Z</dcterms:modified>
  <cp:revision>41</cp:revision>
  <dc:subject>ERENOGLU CONSULTANCY, TRANSLATION AND FOREIGN TRADE LTD CO.</dc:subject>
  <dc:title>ERENOĞLU DANIŞMANLIK TERCÜMANLIK VE DIŞ TİCARET LTD. ŞTİ.</dc:title>
</cp:coreProperties>
</file>